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2C3-AC5E-48FF-9FE1-14FB4189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513-8E9E-47C7-A147-57DA805E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368-3458-46B7-BCCD-DD77D8C5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8E6-B9D9-4507-BD09-9A7EA670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C045-8A7B-4203-A6A0-66AA3B5C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4808-FE52-4FC5-881C-C60C6E6E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6C64-E94A-4D63-8F70-A75A450F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8C9B-B0B5-4A4C-B5E0-3B08B4DF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CAB6-B762-406C-A65C-7A6109EA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1D7C-F576-4826-BAAD-2595DD24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E043-8A0E-49D7-ADAF-DAF26FDB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546-3F22-4280-9C5F-F6005AA7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F445-2BF9-45D4-82CA-A2F41728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3B52-8A27-447E-8F89-C52CB33C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B5C7-4D21-4C75-A424-03CA1357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636B-9A8B-4D60-A7A6-0B1E4D4D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3A0A-4F21-40A0-B8C3-68A8CDF4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392D-8517-4C73-8D8D-4894077E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C5E-08DA-4018-976E-152AD369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94C-E987-4EDE-853E-1DA94357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C897-07E6-4081-ABD7-B972255B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977-9456-42B2-9E1B-CB691E2D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445-D8F4-4AF0-9A01-821E9233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D71-B8A4-4EF2-9641-DD6DCE9C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FFDF-879E-4776-8886-2114403A6D8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AFC9-6458-4123-AE9F-820526EB378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(The Divided Kingdom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uarter 6, Lesson 1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 Kings 2:19 – 3:2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g.45-4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Days of Elisha’s Ministr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 Kings 2:12-2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parts the Jordan – 12-1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pacifies some prophets – 15-1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purifies some water – 19-2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punishes some mocking youths – 23-2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114800" y="4572000"/>
            <a:ext cx="83808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3808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ocate Beth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1484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479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t.Carme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438280" y="2819160"/>
            <a:ext cx="381240" cy="75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995640" y="228600"/>
            <a:ext cx="5148360" cy="6400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isha and King Jo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Incompetent King – 2 Kings 3:1-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ram’s idolatry – 1-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ram’s intent: Get Judah to help fight the Moabites – 4-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ram’s ineptness (9): Runs out of wa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724280" y="6019920"/>
            <a:ext cx="129564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Joram’s Efforts Against The Moab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isha and King Jo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Indignant Prophet -2 Kings 3:10-2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equest: Seek instruction from a prophet – 10-1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ebuke: Elisha wants no part of Joram -13-1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eply: God sends good news of water -15-19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ed water: Deceives the Moabites – 20-2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outing: Moabites defeated – 24-2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09680" y="304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ocate Kir-harese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6248520"/>
            <a:ext cx="1676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02:36:03Z</dcterms:created>
  <dc:creator>Terry W. Benton</dc:creator>
  <dc:description/>
  <dc:language>en-US</dc:language>
  <cp:lastModifiedBy>Frank D Vines</cp:lastModifiedBy>
  <dcterms:modified xsi:type="dcterms:W3CDTF">2005-08-09T13:25:52Z</dcterms:modified>
  <cp:revision>1</cp:revision>
  <dc:subject/>
  <dc:title>Till There Was No Remedy (The Divided Kingdom)</dc:title>
</cp:coreProperties>
</file>